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1EFF-7519-4126-AF31-4B6DF6CD0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EE3D-DB1E-4F9A-BFAD-5886065F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225B9-AB07-4F73-BECA-7194B4F6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18993-8550-43C0-9528-CC63CD30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874DA-B957-45C1-8B10-557AEF16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269DB-53F7-4D75-8F72-7953EDD9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DEB14-28C3-4298-822F-DE48E138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2C5F5-59F8-489B-8E90-FCC34C7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CB1EF-4B07-4E71-8563-B9ED94BC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26465-510D-425B-8500-993B4E0E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C943A-78E6-46D3-999D-16E0E2C5C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D2AAD-6413-4288-A82B-961E41FBF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0CE3-E308-4A31-9904-2AB1445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328ACA-2710-4D1E-97C5-73DCF6A4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E30A80-71F4-4E49-8E64-7B214EBC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EC8A32-53C4-4B18-9839-4E86C28D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9E1E1E-94A8-4F1D-86CC-5226E5B9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3C5861-462C-4192-A651-7D2DACBD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E3DDF4-3538-41D5-8823-630362D8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DC8B9-DEDB-43CE-B6E3-321D5E58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AFB24A-F721-40F7-8F53-C9B613F4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6C45FC-8DB3-4F34-A4CC-FE71FC07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CAA4C-ED24-49CD-9022-E929B4B0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17FB-7B22-43F0-A91F-48D06EC256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A44ED3-7746-4C78-B95B-B545B32D9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24AF7-2AD6-453C-BA36-FFBA3B984C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1FF29-007B-48C5-9553-E9E05BF3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231A45-BA2A-40B9-81BC-3C60AD3D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ED0636-5C83-4056-9FBA-7E707DC5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9F12DB-1013-49B1-9DAA-F700F245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B23DE4-496A-4D1A-A137-64A8C9EE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FE7E0D-765A-4136-B77F-CEFA130E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18FD47-756F-4CD4-8196-98C3DD3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0A89D1-06C8-4857-871A-C275E5C6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74EFA-B5F9-4DF4-97D2-8C655B4BFA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CDAEA9-5FB2-4BF9-B0B0-8451C9A4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9BB7EF-98DF-4B02-BA86-DF02C583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9B8673-97A4-498B-B5FA-DC47DB0018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2C730E-42BD-4CF3-8BEE-9BF8B50127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89038-A223-4F2A-AABB-91B9DFBA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0732A-081F-4CB9-9F85-583DC542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1FB32-1EFE-4C4C-BC4E-D26198BD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D9F11-FBB1-401C-9788-E28F1C86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813EEA-700A-4A51-8A22-B8551CFA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DF73DB-F609-4056-BD47-FFE0281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A0A55-BE93-42D0-89DB-722BEF42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3F9C6-04D7-4530-BAE8-87F34508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2EA72-ACD4-42BB-94AE-0AD246CF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8314AD-411C-492B-8987-BD257774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186829-A0DB-4D19-82C6-6C838238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AED6AC-42CE-4730-8BB3-14E573B0F5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E0E2F-3746-4A85-82AA-B4519BFA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7D053-38D8-4376-89DA-536E8BA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BBE1D-EA73-407D-AFF0-6A0A352F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1DE8E-DEEC-4B7A-A888-EEF167CA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CE2A3-350A-400F-9DB1-56C941C9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B75D-20EB-4B09-957E-250B96C7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CE72E-93B9-4643-AB1D-D5D4CE86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4449B-5CBC-43DF-BEAB-E61E9295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6C6D0-6514-4426-9B33-A5ECF465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AACDA-F012-4FE3-99F5-1693CCF5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227D0-593E-4799-9BCD-6CBA1ADC7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FFFA-CD5B-4161-A3A3-5853F836F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77CF-9EC9-4998-A38E-A53FB405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BB81-FA10-45CD-8A47-8DA00140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B526-E4C9-4087-8F29-6DD1FB0E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692E-3DBC-4FD1-969F-83A344AF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25AD-340E-4317-A513-60AC93F5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5AB8-5D94-4935-A80E-E6BC4A8D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3BAA-F37A-4BBB-8273-72E78072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21A5-EEE5-462E-9B7B-7B7C4957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0726-CB49-41BA-BEE9-3089D643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5EC3-472C-4858-BB9C-8DD59F4A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1F6C-CC7A-46E5-A609-014DB88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66DB-EF29-459D-B3F8-444D57039B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67E76-87C4-4C9A-9F85-1147F0F7A3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28F37-2E0F-4FB6-9638-BBA97F9C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1981B-6EA6-4799-990D-D398BD59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8A62-C0DA-4FD1-A4B6-F67C85EF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5AD9F-13DC-47E2-B31C-61C8FBE7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07D46-4CB5-4EAD-932A-88D0D70B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DCBE8-EA40-4839-AB24-EFDC1F9F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10AA2-1867-47AD-B337-13A1E173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9C7E8-AE0A-4FD0-9F00-2CC0079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94423-1CC9-44EC-850F-4E0466EB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3A336-66DD-4531-8C2A-61EEBCF9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11179-244C-490D-ABDA-5CD7AE08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29819-C477-4248-88A4-826303540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29792-04B9-41FF-AE43-FCF4DC8B6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568F-CB4F-4D01-8E4D-C0861AD7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76EED-82A1-4BFB-984B-1F312E57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9B758-F7F3-4372-B0AF-E6C80ABA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540CF-2D98-4A2C-9A2E-963AFAA3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BFF7B-5B8C-418C-8130-BC8D7629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184B6-79D0-49C6-AC76-AA219BE3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6608E-F2F8-46BA-B017-B6022D7D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F192F-D06F-4234-9539-24492E53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003D7-2B31-44E8-B172-6C4C914D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528C8-AAEA-4A9A-A93B-411AD46B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5485F-636C-46CF-86FC-8DE17E8D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21B7-746E-42FE-8B59-2AA579D9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00D49-2F7D-40D3-BDA4-9188C7065B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1711-4DA1-437C-A2B5-91DCED6835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8287-67E4-45BF-A7D5-D78FC9AA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093DF-1C15-4D6E-BA9B-B1CC8AA7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41BA-FBC6-443A-9BCE-57A11CFD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DCFDD-4DC8-4AE9-B495-730AC174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88F4E-E811-4DA7-960E-6F32963C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D211-46E5-468F-A844-042C20C3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37CE-211C-4E20-9C66-F683CF6D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6C9D8-033A-4A7B-9F1B-1B66886F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B894-F8A4-4ADB-9E92-B8C678ED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CB7F-5722-4686-8DEC-7708092B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1C3A-CB19-47A6-8789-CD625E1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7FE1-810F-497F-8F4F-ED35EC5F52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F60E3-D7FD-4326-955E-D8237FFF83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CE782-8CAD-4F7B-B341-760F2DD4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118B8-CEC9-4A05-B494-C9D92134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640A8-7729-4572-9F8C-2454AA40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C1DFC-65D2-4302-A8B8-BD5CA2DB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349EA-13E9-4C76-8B83-7AD80DC9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FFD2D-ED9E-4416-9396-34D8ACDD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353A-3285-4DE3-B2DC-CE9581D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01D7E-F905-4719-ABD4-A0A47B11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2B3B9-6624-448D-B4EB-1ECA188E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238EF-4FAC-4D2A-87B3-7B47236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C7E16-DC12-4189-B4D6-163098F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4FD08-DEA9-40A4-918E-63F3963369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7FF337-35B0-4720-B809-616BC26F9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A3140C-D400-4A79-93F3-B0ADCC73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1D211E-DF77-4BD5-AE31-8BA0CE0A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49A9B6-2C48-4D82-A023-006D4D01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16AEC-63B4-4DD5-B11A-83585DE3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9636-C29B-4783-8AFE-B4E7ED82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680" y="-111600"/>
            <a:ext cx="85327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B1128E-FA9C-469F-81BD-C194317F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248DF2-DA99-4388-B1AD-FC6841BC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31BF21-F10E-42BB-B31D-C6C5820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AFE91A-DF1A-4694-AB36-E6BF72E6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680" y="3925080"/>
            <a:ext cx="853272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89DF9F-CB27-4118-91C6-FDA20690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880" y="152352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6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3880" y="3925080"/>
            <a:ext cx="41637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13A2E8-C201-401E-BABF-64C20FC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672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1400" y="152352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68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672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1400" y="3925080"/>
            <a:ext cx="27471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07845A-EC64-43B4-A6B3-2EC6AF257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5B437-27F1-4356-B2B9-F2CF0EC76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23CFB-26FC-490E-BAEE-CCC2FDC7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F7AA9-03B4-438B-AEF2-A9C54AA6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2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95F77A-BAAC-48E2-8756-6928EC494CA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9"/>
          </p:nvPr>
        </p:nvSpPr>
        <p:spPr>
          <a:xfrm>
            <a:off x="1371600" y="31248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7D7ABB-BD2A-4E12-A8C2-B81957B3121D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0"/>
          </p:nvPr>
        </p:nvSpPr>
        <p:spPr>
          <a:xfrm>
            <a:off x="578772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1680" y="6410160"/>
            <a:ext cx="3584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2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AD8B11-5B0C-4CD6-AFED-02C74F34599B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143840" y="155520"/>
            <a:ext cx="1440" cy="624528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23"/>
          </p:nvPr>
        </p:nvSpPr>
        <p:spPr>
          <a:xfrm>
            <a:off x="6914880" y="3009600"/>
            <a:ext cx="45540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BFCD28-607A-4C28-AA60-C1C4009122EC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24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7B7D8B-7490-4DC1-9127-025A8EA7CE58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4362480" y="10270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6246A3-FDCF-44E2-8E29-BC88B97B0C4C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243828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8"/>
          </p:nvPr>
        </p:nvSpPr>
        <p:spPr>
          <a:xfrm>
            <a:off x="4343400" y="21985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14FAE2-610F-45CE-AE21-FC20D44E48B7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562640" y="1574280"/>
            <a:ext cx="9360" cy="482148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9"/>
          </p:nvPr>
        </p:nvSpPr>
        <p:spPr>
          <a:xfrm>
            <a:off x="5790960" y="641016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4343400" y="103968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455459-E1EB-4182-87E3-80845216ED23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V="1">
            <a:off x="4572000" y="2198520"/>
            <a:ext cx="1440" cy="4191120"/>
          </a:xfrm>
          <a:prstGeom prst="line">
            <a:avLst/>
          </a:prstGeom>
          <a:ln w="9360">
            <a:solidFill>
              <a:srgbClr val="646b8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1279440"/>
            <a:ext cx="8832960" cy="180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1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2"/>
          </p:nvPr>
        </p:nvSpPr>
        <p:spPr>
          <a:xfrm>
            <a:off x="4343400" y="1042920"/>
            <a:ext cx="45576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B214A3-A4B3-4770-9995-9A51075F941D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4"/>
          </p:nvPr>
        </p:nvSpPr>
        <p:spPr>
          <a:xfrm>
            <a:off x="4343400" y="103644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30B338-D216-4232-ACFE-A7486B894D03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5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641016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16"/>
          </p:nvPr>
        </p:nvSpPr>
        <p:spPr>
          <a:xfrm>
            <a:off x="4266720" y="6324480"/>
            <a:ext cx="608040" cy="43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48D101-479D-4BAE-B5E1-8FEE721794A9}" type="slidenum">
              <a:rPr b="0" lang="en-US" sz="1600" spc="-1" strike="noStrike">
                <a:solidFill>
                  <a:srgbClr val="ffffff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7b98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-111600"/>
            <a:ext cx="8532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32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7"/>
          </p:nvPr>
        </p:nvSpPr>
        <p:spPr>
          <a:xfrm>
            <a:off x="1371600" y="312480"/>
            <a:ext cx="45576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7b9899"/>
                </a:solidFill>
                <a:latin typeface="Georgia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5105B4-E3B1-41F8-922F-B83849112D04}" type="slidenum">
              <a:rPr b="0" lang="en-US" sz="1600" spc="-1" strike="noStrike">
                <a:solidFill>
                  <a:srgbClr val="7b9899"/>
                </a:solidFill>
                <a:latin typeface="Georgia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18"/>
          </p:nvPr>
        </p:nvSpPr>
        <p:spPr>
          <a:xfrm>
            <a:off x="5790960" y="6405480"/>
            <a:ext cx="3043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Georg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  <a:ea typeface="DejaVu Sans"/>
              </a:rPr>
              <a:t>10/26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1680" y="6410160"/>
            <a:ext cx="3382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79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American Food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Stereotypical American Foo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276720" y="1417680"/>
            <a:ext cx="2844720" cy="2095560"/>
            <a:chOff x="3276720" y="1417680"/>
            <a:chExt cx="2844720" cy="2095560"/>
          </a:xfrm>
        </p:grpSpPr>
        <p:pic>
          <p:nvPicPr>
            <p:cNvPr id="610" name="" descr=""/>
            <p:cNvPicPr/>
            <p:nvPr/>
          </p:nvPicPr>
          <p:blipFill>
            <a:blip r:embed="rId1"/>
            <a:stretch/>
          </p:blipFill>
          <p:spPr>
            <a:xfrm>
              <a:off x="3276720" y="1417680"/>
              <a:ext cx="284472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3276720" y="1417680"/>
              <a:ext cx="284472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301680" y="1417680"/>
            <a:ext cx="2514600" cy="32385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3492360" cy="23241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769080" y="1905120"/>
            <a:ext cx="20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Hambur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Hot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French f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Fast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Food with my Fami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1417680"/>
            <a:ext cx="2666880" cy="3556080"/>
            <a:chOff x="457200" y="1417680"/>
            <a:chExt cx="2666880" cy="355608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457200" y="1417680"/>
              <a:ext cx="2666880" cy="35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457200" y="1417680"/>
              <a:ext cx="2666880" cy="35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6019920" y="1244520"/>
            <a:ext cx="2666880" cy="35560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6668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352680" y="1676520"/>
            <a:ext cx="24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Veg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S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Bread/Noodle d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Fish/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497376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We definitely don’t eat as much ham or 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78640" y="497376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Chicken and beef are more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57200" y="274680"/>
            <a:ext cx="4191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Sweets</a:t>
            </a:r>
            <a:r>
              <a:rPr b="0" lang="en-US" sz="3300" spc="-1" strike="noStrike">
                <a:solidFill>
                  <a:srgbClr val="7b9899"/>
                </a:solidFill>
                <a:latin typeface="Arial Black"/>
                <a:ea typeface="Arial Blac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57200" y="1417680"/>
            <a:ext cx="3595680" cy="2697120"/>
            <a:chOff x="457200" y="1417680"/>
            <a:chExt cx="3595680" cy="2697120"/>
          </a:xfrm>
        </p:grpSpPr>
        <p:pic>
          <p:nvPicPr>
            <p:cNvPr id="626" name="" descr=""/>
            <p:cNvPicPr/>
            <p:nvPr/>
          </p:nvPicPr>
          <p:blipFill>
            <a:blip r:embed="rId1"/>
            <a:stretch/>
          </p:blipFill>
          <p:spPr>
            <a:xfrm>
              <a:off x="457200" y="1417680"/>
              <a:ext cx="3595680" cy="26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457200" y="1417680"/>
              <a:ext cx="3595680" cy="26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2724120" cy="36273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5562720" y="6094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457200" y="48006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duster"/>
                <a:ea typeface="Chalkduster"/>
              </a:rPr>
              <a:t>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duster"/>
                <a:ea typeface="Chalkduster"/>
              </a:rPr>
              <a:t>Cup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610320" y="388620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duster"/>
                <a:ea typeface="Chalkduster"/>
              </a:rPr>
              <a:t>Cook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duster"/>
                <a:ea typeface="Chalkduster"/>
              </a:rPr>
              <a:t>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Breakfast, Lunch, Dinn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01680" y="1527120"/>
            <a:ext cx="2684520" cy="3578400"/>
            <a:chOff x="301680" y="1527120"/>
            <a:chExt cx="2684520" cy="3578400"/>
          </a:xfrm>
        </p:grpSpPr>
        <p:pic>
          <p:nvPicPr>
            <p:cNvPr id="634" name="" descr=""/>
            <p:cNvPicPr/>
            <p:nvPr/>
          </p:nvPicPr>
          <p:blipFill>
            <a:blip r:embed="rId1"/>
            <a:stretch/>
          </p:blipFill>
          <p:spPr>
            <a:xfrm>
              <a:off x="301680" y="1527120"/>
              <a:ext cx="2684520" cy="35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1527120"/>
              <a:ext cx="2684520" cy="35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776160" y="5564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duster"/>
                <a:ea typeface="Chalkduster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276720" y="1436760"/>
            <a:ext cx="2679480" cy="36687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581280" y="5472000"/>
            <a:ext cx="26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duster"/>
                <a:ea typeface="Chalkduster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5854680" y="1527120"/>
            <a:ext cx="2981520" cy="35784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568920" y="5410080"/>
            <a:ext cx="257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duster"/>
                <a:ea typeface="Chalkduster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Multicultural Foo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People who are originally from all over the world live in the United States and bring the food of their culture the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Chinese Food, Italian Food, Indian Food, Middle Eastern/Mediterranean food, African food (especially Ethiopian and Moroccan), and Mexican fo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01680" y="228600"/>
            <a:ext cx="1603440" cy="10666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7243920" y="5578560"/>
            <a:ext cx="1562040" cy="10414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301680" y="5578560"/>
            <a:ext cx="1638360" cy="10922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4"/>
          <a:stretch/>
        </p:blipFill>
        <p:spPr>
          <a:xfrm>
            <a:off x="7213680" y="228600"/>
            <a:ext cx="1592280" cy="11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0168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halkduster"/>
                <a:ea typeface="Chalkduster"/>
              </a:rPr>
              <a:t>Ques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What is one difference between the food in Spain and the food in the United Stat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What is different about the size of the meals in the United States versus the size of the meals in Spai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halkduster"/>
                <a:ea typeface="Chalkduster"/>
              </a:rPr>
              <a:t>Have you ever had American food? What did you ea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9:06:16Z</dcterms:created>
  <dc:creator>Justin</dc:creator>
  <dc:description/>
  <dc:language>en-US</dc:language>
  <cp:lastModifiedBy>Justin</cp:lastModifiedBy>
  <dcterms:modified xsi:type="dcterms:W3CDTF">2010-10-25T20:50:28Z</dcterms:modified>
  <cp:revision>185</cp:revision>
  <dc:subject/>
  <dc:title>American Food </dc:title>
</cp:coreProperties>
</file>